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6.jpeg" ContentType="image/jpeg"/>
  <Override PartName="/ppt/media/image35.wmf" ContentType="image/x-wmf"/>
  <Override PartName="/ppt/media/image29.png" ContentType="image/png"/>
  <Override PartName="/ppt/media/image14.wmf" ContentType="image/x-wmf"/>
  <Override PartName="/ppt/media/image10.wmf" ContentType="image/x-wmf"/>
  <Override PartName="/ppt/media/image4.jpeg" ContentType="image/jpeg"/>
  <Override PartName="/ppt/media/image38.wmf" ContentType="image/x-wmf"/>
  <Override PartName="/ppt/media/image30.wmf" ContentType="image/x-wmf"/>
  <Override PartName="/ppt/media/image6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31.wmf" ContentType="image/x-wmf"/>
  <Override PartName="/ppt/media/image33.png" ContentType="image/png"/>
  <Override PartName="/ppt/media/image8.png" ContentType="image/png"/>
  <Override PartName="/ppt/media/image36.png" ContentType="image/png"/>
  <Override PartName="/ppt/media/image13.wmf" ContentType="image/x-wmf"/>
  <Override PartName="/ppt/media/image37.wmf" ContentType="image/x-wmf"/>
  <Override PartName="/ppt/media/image34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17.jpeg" ContentType="image/jpeg"/>
  <Override PartName="/ppt/media/image12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28.wmf" ContentType="image/x-wmf"/>
  <Override PartName="/ppt/media/image3.jpeg" ContentType="image/jpeg"/>
  <Override PartName="/ppt/media/image18.wmf" ContentType="image/x-wmf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</p:sldIdLst>
  <p:sldSz cx="9144000" cy="6858000"/>
  <p:notesSz cx="700246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20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2"/>
          </p:nvPr>
        </p:nvSpPr>
        <p:spPr>
          <a:xfrm>
            <a:off x="396684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804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3"/>
          </p:nvPr>
        </p:nvSpPr>
        <p:spPr>
          <a:xfrm>
            <a:off x="-36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4"/>
          </p:nvPr>
        </p:nvSpPr>
        <p:spPr>
          <a:xfrm>
            <a:off x="396684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760842-C136-453D-BCA5-DFBAEED72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79D948-F498-4E3C-AD7B-32AD71922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urse not always feas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52DAE8-E804-4507-A480-49FBE0013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Provision on a strictly controlled Terminal Server or V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29C7C1-C10E-4135-99BA-813DF9E60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45A012-7EC2-4207-A2A3-3542D1DA6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_sales_*,s_admin_*"    use a naming convention for your different service interface modules.  It'll shorten the list, make it more maintainable, and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Nectarios Daloglou of Dalo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82FFA8-3C44-489B-B902-7646C2CDF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ersus performance trade-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use batch submits to run big jobs in shared mem o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4F1B0E-2B50-4106-AE09-1520B598A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EE9B20-5FCD-4FF7-9D39-4CC1D2D6D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 security allows delete even if file security does not allow 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05AB27-AE56-40E2-AA51-94E56FBF4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: dir write = delete file priv even if no file write pri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76CFFE-BDF4-4BDD-95AB-C8D296B49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: _can-read, _can-write, _can-create, _can-de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:D: _can-read, _can-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quires a lot of application work to coordinate run-time table/field database security with an application's own concept of user and fine-grained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pp developers just use ON/OFF security.  If you are authenticated you get access to the full DB except maybe a few very sensitive tables that are managed individu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4C6C9D-3E42-49E9-BFB0-D516C9855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word field rules are hard coded into core, so the _password's _Can-write permission 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AD9A2D-7D27-4C03-AD58-E6A30C6D3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fly connect with secure DB files implies C/S connec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ave everyone connect with a no-access generic account via –U –P and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D5E2F5-EF85-4A97-92F6-C814B2685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1DBA09-E6B3-4880-B5FA-35DB3DF41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make C-P available to entire application then you can use the ROLES function for application authorization. That’s what it’s ther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ync ROLES with something like Active Directory so your application authorization is managed centrally in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7B720D-6B84-4F36-AA01-FDB594D61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code is in ABL code – make sure this is ultra-se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18307E-34E9-4838-8498-99E154ABB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signs in (username/pw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AppServer validates password and seals C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 ApSv returns sealed C-P token to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sends sealed C-P token to Appl Apsv to run DB queries on hi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 Apsv validates sealed C-P token against DB and runs qu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 Apsv returns data to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AD0AC3-E591-49E5-ABB5-F51BFAC59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D35292-FB19-49AB-A75F-67B29CC4A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know how many millions of times I’ve seen th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 system security is typically non-exis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8E9664-B725-4356-907F-EAE0E67E1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798480" y="385920"/>
            <a:ext cx="4237200" cy="31780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77600" y="3851280"/>
            <a:ext cx="567828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Non-exhaustive list of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7BC33C-6F68-4C1C-A392-84CF4D8F3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Non-exhaustive list of 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96720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40F844-20CA-4E8D-B28E-F0E838541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236520"/>
            <a:ext cx="861048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6512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09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7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86512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38120" y="236520"/>
            <a:ext cx="861048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86512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09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7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86512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38120" y="236520"/>
            <a:ext cx="861048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86512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09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7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86512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38120" y="236520"/>
            <a:ext cx="861048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86512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09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7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86512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8120" y="236520"/>
            <a:ext cx="861048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6512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6512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38120" y="236520"/>
            <a:ext cx="861048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6512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7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6512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38120" y="236520"/>
            <a:ext cx="861048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6512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7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6512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38120" y="236520"/>
            <a:ext cx="861048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8120" y="236520"/>
            <a:ext cx="861048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6512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7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86512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38120" y="236520"/>
            <a:ext cx="861048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6512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7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86512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38120" y="236520"/>
            <a:ext cx="861048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86512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7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86512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38120" y="236520"/>
            <a:ext cx="861048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09480" y="393696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92160" y="162828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48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92160" y="393696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865120" y="162828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09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748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865120" y="393696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vel2_final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854040" y="6618240"/>
            <a:ext cx="17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© 2010 Progresswiz Consulting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0" descr="progresswiz_small"/>
          <p:cNvPicPr/>
          <p:nvPr/>
        </p:nvPicPr>
        <p:blipFill>
          <a:blip r:embed="rId3"/>
          <a:stretch/>
        </p:blipFill>
        <p:spPr>
          <a:xfrm>
            <a:off x="0" y="6018120"/>
            <a:ext cx="1766880" cy="68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2c3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2c3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2c3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968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Securing Your Swiss Cheese Environment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-162720" y="661824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B2F5A4F5-F0A1-42B7-B986-0E2230E557A5}" type="slidenum">
              <a:rPr b="0" lang="en-US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level2_final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6854040" y="6618240"/>
            <a:ext cx="17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© 2010 Progresswiz Consulting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6" name="Picture 10" descr="progresswiz_small"/>
          <p:cNvPicPr/>
          <p:nvPr/>
        </p:nvPicPr>
        <p:blipFill>
          <a:blip r:embed="rId3"/>
          <a:stretch/>
        </p:blipFill>
        <p:spPr>
          <a:xfrm>
            <a:off x="0" y="6018120"/>
            <a:ext cx="1766880" cy="68256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-162720" y="661824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887C226E-A22C-4530-ADDC-0C8521E8C85B}" type="slidenum">
              <a:rPr b="0" lang="en-US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2c3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2c3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2c3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9"/>
          </p:nvPr>
        </p:nvSpPr>
        <p:spPr>
          <a:xfrm>
            <a:off x="22968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Securing Your Swiss Cheese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level2_final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6854040" y="6618240"/>
            <a:ext cx="17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© 2010 Progresswiz Consulting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29" name="Picture 10" descr="progresswiz_small"/>
          <p:cNvPicPr/>
          <p:nvPr/>
        </p:nvPicPr>
        <p:blipFill>
          <a:blip r:embed="rId3"/>
          <a:stretch/>
        </p:blipFill>
        <p:spPr>
          <a:xfrm>
            <a:off x="0" y="6018120"/>
            <a:ext cx="1766880" cy="6825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-162720" y="661824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043FFBB3-B697-4B18-8E02-BB5D41EDB3A8}" type="slidenum">
              <a:rPr b="0" lang="en-US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2c3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2c3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2c3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10"/>
          </p:nvPr>
        </p:nvSpPr>
        <p:spPr>
          <a:xfrm>
            <a:off x="22968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Securing Your Swiss Cheese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level2_final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6854040" y="6618240"/>
            <a:ext cx="17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© 2010 Progresswiz Consulting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2" name="Picture 10" descr="progresswiz_small"/>
          <p:cNvPicPr/>
          <p:nvPr/>
        </p:nvPicPr>
        <p:blipFill>
          <a:blip r:embed="rId3"/>
          <a:stretch/>
        </p:blipFill>
        <p:spPr>
          <a:xfrm>
            <a:off x="0" y="6018120"/>
            <a:ext cx="1766880" cy="68256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6"/>
          <p:cNvSpPr/>
          <p:nvPr/>
        </p:nvSpPr>
        <p:spPr>
          <a:xfrm>
            <a:off x="-162720" y="661824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B03DDA6F-4D2C-4313-95D6-5E7011349587}" type="slidenum">
              <a:rPr b="0" lang="en-US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2c3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2c3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2c3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11"/>
          </p:nvPr>
        </p:nvSpPr>
        <p:spPr>
          <a:xfrm>
            <a:off x="22968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Securing Your Swiss Cheese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sc_homepage_final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668160" y="2773440"/>
            <a:ext cx="826956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2c3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2c3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2c3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level2_final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6854040" y="6618240"/>
            <a:ext cx="17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© 2010 Progresswiz Consulting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5" name="Picture 10" descr="progresswiz_small"/>
          <p:cNvPicPr/>
          <p:nvPr/>
        </p:nvPicPr>
        <p:blipFill>
          <a:blip r:embed="rId3"/>
          <a:stretch/>
        </p:blipFill>
        <p:spPr>
          <a:xfrm>
            <a:off x="0" y="6018120"/>
            <a:ext cx="1766880" cy="682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-162720" y="661824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921CCD8C-B3C7-4B60-9DC6-042FE3FC4381}" type="slidenum">
              <a:rPr b="0" lang="en-US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2c3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2c3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2c3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2"/>
          </p:nvPr>
        </p:nvSpPr>
        <p:spPr>
          <a:xfrm>
            <a:off x="22968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Securing Your Swiss Cheese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level2_final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6854040" y="6618240"/>
            <a:ext cx="17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© 2010 Progresswiz Consulting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8" name="Picture 10" descr="progresswiz_small"/>
          <p:cNvPicPr/>
          <p:nvPr/>
        </p:nvPicPr>
        <p:blipFill>
          <a:blip r:embed="rId3"/>
          <a:stretch/>
        </p:blipFill>
        <p:spPr>
          <a:xfrm>
            <a:off x="0" y="6018120"/>
            <a:ext cx="1766880" cy="682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-162720" y="661824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8E4FFF33-A0BF-4214-A16B-50E34D67EA7A}" type="slidenum">
              <a:rPr b="0" lang="en-US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2c3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2c3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2c3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3"/>
          </p:nvPr>
        </p:nvSpPr>
        <p:spPr>
          <a:xfrm>
            <a:off x="22968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Securing Your Swiss Cheese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vel2_final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6854040" y="6618240"/>
            <a:ext cx="17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© 2010 Progresswiz Consulting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Picture 10" descr="progresswiz_small"/>
          <p:cNvPicPr/>
          <p:nvPr/>
        </p:nvPicPr>
        <p:blipFill>
          <a:blip r:embed="rId3"/>
          <a:stretch/>
        </p:blipFill>
        <p:spPr>
          <a:xfrm>
            <a:off x="0" y="6018120"/>
            <a:ext cx="1766880" cy="6825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-162720" y="661824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7185C1BD-F609-4516-977F-1A31A77EF932}" type="slidenum">
              <a:rPr b="0" lang="en-US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2c3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2c3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2c3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4"/>
          </p:nvPr>
        </p:nvSpPr>
        <p:spPr>
          <a:xfrm>
            <a:off x="22968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Securing Your Swiss Cheese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level2_final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6854040" y="6618240"/>
            <a:ext cx="17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© 2010 Progresswiz Consulting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4" name="Picture 10" descr="progresswiz_small"/>
          <p:cNvPicPr/>
          <p:nvPr/>
        </p:nvPicPr>
        <p:blipFill>
          <a:blip r:embed="rId3"/>
          <a:stretch/>
        </p:blipFill>
        <p:spPr>
          <a:xfrm>
            <a:off x="0" y="6018120"/>
            <a:ext cx="1766880" cy="6825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-162720" y="661824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7E90D4C9-4A3C-4BFB-BFF7-37D4A7FED90F}" type="slidenum">
              <a:rPr b="0" lang="en-US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2c3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2c3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2c3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5"/>
          </p:nvPr>
        </p:nvSpPr>
        <p:spPr>
          <a:xfrm>
            <a:off x="22968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Securing Your Swiss Cheese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level2_final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6854040" y="6618240"/>
            <a:ext cx="17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© 2010 Progresswiz Consulting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7" name="Picture 10" descr="progresswiz_small"/>
          <p:cNvPicPr/>
          <p:nvPr/>
        </p:nvPicPr>
        <p:blipFill>
          <a:blip r:embed="rId3"/>
          <a:stretch/>
        </p:blipFill>
        <p:spPr>
          <a:xfrm>
            <a:off x="0" y="6018120"/>
            <a:ext cx="1766880" cy="6825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6"/>
          <p:cNvSpPr/>
          <p:nvPr/>
        </p:nvSpPr>
        <p:spPr>
          <a:xfrm>
            <a:off x="-162720" y="661824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4DBFD811-9F66-4C92-BF65-D93E5392E0FD}" type="slidenum">
              <a:rPr b="0" lang="en-US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2c3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2c3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2c3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6"/>
          </p:nvPr>
        </p:nvSpPr>
        <p:spPr>
          <a:xfrm>
            <a:off x="22968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Securing Your Swiss Cheese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level2_final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6854040" y="6618240"/>
            <a:ext cx="17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© 2010 Progresswiz Consulting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0" name="Picture 10" descr="progresswiz_small"/>
          <p:cNvPicPr/>
          <p:nvPr/>
        </p:nvPicPr>
        <p:blipFill>
          <a:blip r:embed="rId3"/>
          <a:stretch/>
        </p:blipFill>
        <p:spPr>
          <a:xfrm>
            <a:off x="0" y="6018120"/>
            <a:ext cx="1766880" cy="6825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"/>
          <p:cNvSpPr/>
          <p:nvPr/>
        </p:nvSpPr>
        <p:spPr>
          <a:xfrm>
            <a:off x="-162720" y="661824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F6BBCF39-5F6F-4706-82FA-6B471FC21D29}" type="slidenum">
              <a:rPr b="0" lang="en-US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2c3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2c3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2c3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7"/>
          </p:nvPr>
        </p:nvSpPr>
        <p:spPr>
          <a:xfrm>
            <a:off x="22968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Securing Your Swiss Cheese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level2_final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5"/>
          <p:cNvSpPr/>
          <p:nvPr/>
        </p:nvSpPr>
        <p:spPr>
          <a:xfrm>
            <a:off x="6854040" y="6618240"/>
            <a:ext cx="17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© 2010 Progresswiz Consulting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3" name="Picture 10" descr="progresswiz_small"/>
          <p:cNvPicPr/>
          <p:nvPr/>
        </p:nvPicPr>
        <p:blipFill>
          <a:blip r:embed="rId3"/>
          <a:stretch/>
        </p:blipFill>
        <p:spPr>
          <a:xfrm>
            <a:off x="0" y="6018120"/>
            <a:ext cx="1766880" cy="6825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"/>
          <p:cNvSpPr/>
          <p:nvPr/>
        </p:nvSpPr>
        <p:spPr>
          <a:xfrm>
            <a:off x="-162720" y="661824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0886ECC0-7B9E-479E-982F-2F0E930B9338}" type="slidenum">
              <a:rPr b="0" lang="en-US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8120" y="236520"/>
            <a:ext cx="8610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2c3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2c3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2c3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8"/>
          </p:nvPr>
        </p:nvSpPr>
        <p:spPr>
          <a:xfrm>
            <a:off x="22968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Securing Your Swiss Cheese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mailto:pk@progresswiz.com" TargetMode="External"/><Relationship Id="rId2" Type="http://schemas.openxmlformats.org/officeDocument/2006/relationships/hyperlink" Target="http://www.progresswiz.com/" TargetMode="Externa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57080" y="290052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b85"/>
                </a:solidFill>
                <a:latin typeface="Arial"/>
              </a:rPr>
              <a:t>Securing Your Swiss Cheese </a:t>
            </a:r>
            <a:br>
              <a:rPr sz="3200"/>
            </a:br>
            <a:r>
              <a:rPr b="1" lang="en-US" sz="3200" spc="-1" strike="noStrike">
                <a:solidFill>
                  <a:srgbClr val="004b85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5257800" y="4975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b85"/>
                </a:solidFill>
                <a:latin typeface="Arial"/>
              </a:rPr>
              <a:t>PAUL KOUFALI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2" name="Picture 10" descr="progresswiz"/>
          <p:cNvPicPr/>
          <p:nvPr/>
        </p:nvPicPr>
        <p:blipFill>
          <a:blip r:embed="rId1"/>
          <a:stretch/>
        </p:blipFill>
        <p:spPr>
          <a:xfrm>
            <a:off x="6189840" y="1649520"/>
            <a:ext cx="2954160" cy="114120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7"/>
          <p:cNvSpPr/>
          <p:nvPr/>
        </p:nvSpPr>
        <p:spPr>
          <a:xfrm>
            <a:off x="5257800" y="5280120"/>
            <a:ext cx="3733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WIZ CONSULTING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4"/>
          <p:cNvSpPr/>
          <p:nvPr/>
        </p:nvSpPr>
        <p:spPr>
          <a:xfrm>
            <a:off x="668160" y="2773440"/>
            <a:ext cx="826956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5748480" y="1147680"/>
            <a:ext cx="2876400" cy="27385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609480" y="1628640"/>
            <a:ext cx="4973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-&gt; LA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k shell on serv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important but there’s only so much we can talk about in one hour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Multiply 11"/>
          <p:cNvSpPr/>
          <p:nvPr/>
        </p:nvSpPr>
        <p:spPr>
          <a:xfrm>
            <a:off x="6226200" y="3141720"/>
            <a:ext cx="417600" cy="301680"/>
          </a:xfrm>
          <a:custGeom>
            <a:avLst/>
            <a:gdLst/>
            <a:ahLst/>
            <a:rect l="l" t="t" r="r" b="b"/>
            <a:pathLst>
              <a:path w="417513" h="301625">
                <a:moveTo>
                  <a:pt x="79504" y="101196"/>
                </a:moveTo>
                <a:lnTo>
                  <a:pt x="121048" y="43690"/>
                </a:lnTo>
                <a:lnTo>
                  <a:pt x="208757" y="107053"/>
                </a:lnTo>
                <a:lnTo>
                  <a:pt x="296465" y="43690"/>
                </a:lnTo>
                <a:lnTo>
                  <a:pt x="338009" y="101196"/>
                </a:lnTo>
                <a:lnTo>
                  <a:pt x="269328" y="150813"/>
                </a:lnTo>
                <a:lnTo>
                  <a:pt x="338009" y="200429"/>
                </a:lnTo>
                <a:lnTo>
                  <a:pt x="296465" y="257935"/>
                </a:lnTo>
                <a:lnTo>
                  <a:pt x="208757" y="194572"/>
                </a:lnTo>
                <a:lnTo>
                  <a:pt x="121048" y="257935"/>
                </a:lnTo>
                <a:lnTo>
                  <a:pt x="79504" y="200429"/>
                </a:lnTo>
                <a:lnTo>
                  <a:pt x="148185" y="150813"/>
                </a:lnTo>
                <a:lnTo>
                  <a:pt x="79504" y="10119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Multiply 13"/>
          <p:cNvSpPr/>
          <p:nvPr/>
        </p:nvSpPr>
        <p:spPr>
          <a:xfrm>
            <a:off x="6027840" y="3527280"/>
            <a:ext cx="419040" cy="301680"/>
          </a:xfrm>
          <a:custGeom>
            <a:avLst/>
            <a:gdLst/>
            <a:ahLst/>
            <a:rect l="l" t="t" r="r" b="b"/>
            <a:pathLst>
              <a:path w="419100" h="301625">
                <a:moveTo>
                  <a:pt x="79937" y="101233"/>
                </a:moveTo>
                <a:lnTo>
                  <a:pt x="121378" y="43653"/>
                </a:lnTo>
                <a:lnTo>
                  <a:pt x="209550" y="107110"/>
                </a:lnTo>
                <a:lnTo>
                  <a:pt x="297722" y="43653"/>
                </a:lnTo>
                <a:lnTo>
                  <a:pt x="339163" y="101233"/>
                </a:lnTo>
                <a:lnTo>
                  <a:pt x="270273" y="150813"/>
                </a:lnTo>
                <a:lnTo>
                  <a:pt x="339163" y="200392"/>
                </a:lnTo>
                <a:lnTo>
                  <a:pt x="297722" y="257972"/>
                </a:lnTo>
                <a:lnTo>
                  <a:pt x="209550" y="194515"/>
                </a:lnTo>
                <a:lnTo>
                  <a:pt x="121378" y="257972"/>
                </a:lnTo>
                <a:lnTo>
                  <a:pt x="79937" y="200392"/>
                </a:lnTo>
                <a:lnTo>
                  <a:pt x="148827" y="150813"/>
                </a:lnTo>
                <a:lnTo>
                  <a:pt x="79937" y="1012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G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tp, scp, Samba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Edg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L/SQL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eed, etc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5" descr=""/>
          <p:cNvPicPr/>
          <p:nvPr/>
        </p:nvPicPr>
        <p:blipFill>
          <a:blip r:embed="rId1"/>
          <a:stretch/>
        </p:blipFill>
        <p:spPr>
          <a:xfrm>
            <a:off x="5753160" y="1144440"/>
            <a:ext cx="2879640" cy="274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 – Easy 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t all of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tp, etc: force users to stay in their $H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QL access: -ServerType 4G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L C/S access: no “-S” startup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start Appserver etc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but but I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QL/ABL/scp/Apsv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69" name="Object 7" descr=""/>
          <p:cNvPicPr/>
          <p:nvPr/>
        </p:nvPicPr>
        <p:blipFill>
          <a:blip r:embed="rId1"/>
          <a:stretch/>
        </p:blipFill>
        <p:spPr>
          <a:xfrm>
            <a:off x="5618160" y="4338720"/>
            <a:ext cx="4600440" cy="277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 – ABL Server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ull dev licenses on user PC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y for PC support to take green sheet and install Provision, C/N, Q/R, etc… on user P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act – no ad hoc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Query/Re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ut the editor, data admin, etc from Progress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73" name="Object 5" descr=""/>
          <p:cNvPicPr/>
          <p:nvPr/>
        </p:nvPicPr>
        <p:blipFill>
          <a:blip r:embed="rId1"/>
          <a:stretch/>
        </p:blipFill>
        <p:spPr>
          <a:xfrm>
            <a:off x="7242120" y="5318280"/>
            <a:ext cx="1138320" cy="85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trivial 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 client on Windows Termina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pplication at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out at ex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lots of €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77" name="Object 5" descr=""/>
          <p:cNvPicPr/>
          <p:nvPr/>
        </p:nvPicPr>
        <p:blipFill>
          <a:blip r:embed="rId1"/>
          <a:stretch/>
        </p:blipFill>
        <p:spPr>
          <a:xfrm>
            <a:off x="7261200" y="5357880"/>
            <a:ext cx="1138320" cy="85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 – SQL Server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usernames and passwords with real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on usernames/passwords l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eneric “odbcus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you really want everyone to have read access to all dat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Object 5" descr=""/>
          <p:cNvPicPr/>
          <p:nvPr/>
        </p:nvPicPr>
        <p:blipFill>
          <a:blip r:embed="rId1"/>
          <a:stretch/>
        </p:blipFill>
        <p:spPr>
          <a:xfrm>
            <a:off x="7192800" y="5386320"/>
            <a:ext cx="113832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 – Admin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roo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lut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OpenEd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run jo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–admingroup parameter if still using Progress Explor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ject 5" descr=""/>
          <p:cNvPicPr/>
          <p:nvPr/>
        </p:nvPicPr>
        <p:blipFill>
          <a:blip r:embed="rId1"/>
          <a:stretch/>
        </p:blipFill>
        <p:spPr>
          <a:xfrm>
            <a:off x="7183440" y="5376960"/>
            <a:ext cx="1138320" cy="85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 – App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ccessible except by Apsv 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ESSION:EXPOR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of programs that can be executed by Aps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wildc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apsv” service-type use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ro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Object 5" descr=""/>
          <p:cNvPicPr/>
          <p:nvPr/>
        </p:nvPicPr>
        <p:blipFill>
          <a:blip r:embed="rId1"/>
          <a:stretch/>
        </p:blipFill>
        <p:spPr>
          <a:xfrm>
            <a:off x="7202520" y="5464080"/>
            <a:ext cx="113832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 – AppServer +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putting DB and Apsv on same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ble C/S access to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local Apsv can make shared memory conn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 protected from remote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first break through operating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3" name="Object 5" descr=""/>
          <p:cNvPicPr/>
          <p:nvPr/>
        </p:nvPicPr>
        <p:blipFill>
          <a:blip r:embed="rId1"/>
          <a:stretch/>
        </p:blipFill>
        <p:spPr>
          <a:xfrm>
            <a:off x="7202520" y="5464080"/>
            <a:ext cx="113832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237600"/>
            <a:ext cx="861048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7400" y="13748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4" descr="whoami"/>
          <p:cNvPicPr/>
          <p:nvPr/>
        </p:nvPicPr>
        <p:blipFill>
          <a:blip r:embed="rId1"/>
          <a:srcRect l="0" t="0" r="0" b="29268"/>
          <a:stretch/>
        </p:blipFill>
        <p:spPr>
          <a:xfrm>
            <a:off x="990720" y="1876320"/>
            <a:ext cx="7543800" cy="409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in Montréal, Québec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technical consulting in Progres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IX, Windows, MFG/PRO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in performance tuning, system availability and business continuity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ecurity of Progress-bas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438120" y="237600"/>
            <a:ext cx="861048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wiz Consul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 – Web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71680" y="11901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sec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protected ubroker"/>
          <p:cNvPicPr/>
          <p:nvPr/>
        </p:nvPicPr>
        <p:blipFill>
          <a:blip r:embed="rId1"/>
          <a:srcRect l="0" t="0" r="0" b="39384"/>
          <a:stretch/>
        </p:blipFill>
        <p:spPr>
          <a:xfrm>
            <a:off x="919080" y="1638360"/>
            <a:ext cx="7398000" cy="4060800"/>
          </a:xfrm>
          <a:prstGeom prst="rect">
            <a:avLst/>
          </a:prstGeom>
          <a:ln w="0">
            <a:noFill/>
          </a:ln>
        </p:spPr>
      </p:pic>
      <p:pic>
        <p:nvPicPr>
          <p:cNvPr id="602" name="Object 6" descr=""/>
          <p:cNvPicPr/>
          <p:nvPr/>
        </p:nvPicPr>
        <p:blipFill>
          <a:blip r:embed="rId2"/>
          <a:stretch/>
        </p:blipFill>
        <p:spPr>
          <a:xfrm>
            <a:off x="7230960" y="5504040"/>
            <a:ext cx="1138320" cy="85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Trivial 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SSL for all network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ameless Plug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 to my session tomorr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Secure Communications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OpenEdge and 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6" name="Object 5" descr=""/>
          <p:cNvPicPr/>
          <p:nvPr/>
        </p:nvPicPr>
        <p:blipFill>
          <a:blip r:embed="rId1"/>
          <a:stretch/>
        </p:blipFill>
        <p:spPr>
          <a:xfrm>
            <a:off x="7251840" y="5348160"/>
            <a:ext cx="113796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Trivial 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N se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s with ad hoc privileges have no access to PR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ictly control open ports between user vLANs and server v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€€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point Firewall is expensiv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 of maintenance is hi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10" name="Object 5" descr=""/>
          <p:cNvPicPr/>
          <p:nvPr/>
        </p:nvPicPr>
        <p:blipFill>
          <a:blip r:embed="rId1"/>
          <a:stretch/>
        </p:blipFill>
        <p:spPr>
          <a:xfrm>
            <a:off x="7261200" y="5435640"/>
            <a:ext cx="113832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ng System G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09120" y="1628280"/>
            <a:ext cx="506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logging in to same server as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r the user, the greater the d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5767560" y="1084320"/>
            <a:ext cx="2873160" cy="273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 –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 down the 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stricted sh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exec” in the .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CTRL-C out to sh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users on a different server even in Ch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/server conn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18" name="Object 5" descr=""/>
          <p:cNvPicPr/>
          <p:nvPr/>
        </p:nvPicPr>
        <p:blipFill>
          <a:blip r:embed="rId1"/>
          <a:stretch/>
        </p:blipFill>
        <p:spPr>
          <a:xfrm>
            <a:off x="7242120" y="5338800"/>
            <a:ext cx="113832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38120" y="237600"/>
            <a:ext cx="861048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curity useless without physical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write access to the physical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y D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mp the blocks containing _CAN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ally change the data val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,*” becomes “*,*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 the blocks back in to the D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 – DB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d by “prodba” in group “db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ssions = 660 (rw-rw--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directory per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:  deleting a file is a directory action, not a fil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ory permissions app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Object 6" descr=""/>
          <p:cNvPicPr/>
          <p:nvPr/>
        </p:nvPicPr>
        <p:blipFill>
          <a:blip r:embed="rId1"/>
          <a:stretch/>
        </p:blipFill>
        <p:spPr>
          <a:xfrm>
            <a:off x="7348680" y="5367240"/>
            <a:ext cx="113796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 – DB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son-d’êt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setuid bit on the Progress execut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 side: No on-the-fly shared memory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.S. to AVM G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120" y="1628280"/>
            <a:ext cx="5046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access to OpenEdge executables and configuration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uthorized users should be abl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&amp;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(ad ho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5783400" y="1058760"/>
            <a:ext cx="2879640" cy="273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M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leave break-in tools lying around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battering_ram"/>
          <p:cNvPicPr/>
          <p:nvPr/>
        </p:nvPicPr>
        <p:blipFill>
          <a:blip r:embed="rId1"/>
          <a:stretch/>
        </p:blipFill>
        <p:spPr>
          <a:xfrm>
            <a:off x="1603440" y="2276640"/>
            <a:ext cx="4852800" cy="323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AutoShape 3"/>
          <p:cNvSpPr/>
          <p:nvPr/>
        </p:nvSpPr>
        <p:spPr>
          <a:xfrm flipH="1" flipV="1">
            <a:off x="556560" y="1770840"/>
            <a:ext cx="331560" cy="268200"/>
          </a:xfrm>
          <a:custGeom>
            <a:avLst/>
            <a:gdLst>
              <a:gd name="textAreaLeft" fmla="*/ -360 w 331560"/>
              <a:gd name="textAreaRight" fmla="*/ 331560 w 331560"/>
              <a:gd name="textAreaTop" fmla="*/ -360 h 268200"/>
              <a:gd name="textAreaBottom" fmla="*/ 26820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18" y="0"/>
                </a:lnTo>
                <a:lnTo>
                  <a:pt x="21600" y="10800"/>
                </a:lnTo>
                <a:lnTo>
                  <a:pt x="12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, Manager or tech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user?  End-user that develops? V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I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UI client/serv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ti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1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M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example:  Full Dev key in production $DLC/progress.cf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one is running with a full dev licens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r progress.cfg should be runtime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Query/Results if absolutely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eparate full.cfg for com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 me later how to separate CFG components in progress.cf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Object 5" descr=""/>
          <p:cNvPicPr/>
          <p:nvPr/>
        </p:nvPicPr>
        <p:blipFill>
          <a:blip r:embed="rId1"/>
          <a:stretch/>
        </p:blipFill>
        <p:spPr>
          <a:xfrm>
            <a:off x="7280280" y="5329080"/>
            <a:ext cx="113832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s – AVM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what runtime users don’t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of the $DLC procedure libr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decomm.pl, prodic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2c33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 _edit.p, _admin.p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ables: $DLC/bin/_proutil, etc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DLC/properties/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give the DBA group access via s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Object 5" descr=""/>
          <p:cNvPicPr/>
          <p:nvPr/>
        </p:nvPicPr>
        <p:blipFill>
          <a:blip r:embed="rId1"/>
          <a:stretch/>
        </p:blipFill>
        <p:spPr>
          <a:xfrm>
            <a:off x="7329600" y="5407200"/>
            <a:ext cx="1137960" cy="85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s – PRO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file and directory in the PROPATH should only be readable by the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deployment people should have write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deploy group to manage cod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w-rw-r–– koup   deplo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rt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wxrwxr–x deploy deplo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 if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Object 5" descr=""/>
          <p:cNvPicPr/>
          <p:nvPr/>
        </p:nvPicPr>
        <p:blipFill>
          <a:blip r:embed="rId1"/>
          <a:stretch/>
        </p:blipFill>
        <p:spPr>
          <a:xfrm>
            <a:off x="7261200" y="5357880"/>
            <a:ext cx="1138320" cy="85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M to Data G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09120" y="1628280"/>
            <a:ext cx="507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 is “PUBLIC” by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5757840" y="1074600"/>
            <a:ext cx="2879640" cy="274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s – DB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68160" y="13554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names/pass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Administ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able Blank Use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allow Blank Use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untime Permission Che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names and Pass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evel of defense: username/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Edge uses the _USER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fault implementation is 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complex passwords, aging, etc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s – _US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DBA = sysprogr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Sys user that created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o create both users in _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de-authorize DBA privileges with REV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2" name="Object 5" descr=""/>
          <p:cNvPicPr/>
          <p:nvPr/>
        </p:nvPicPr>
        <p:blipFill>
          <a:blip r:embed="rId1"/>
          <a:stretch/>
        </p:blipFill>
        <p:spPr>
          <a:xfrm>
            <a:off x="7221600" y="5357880"/>
            <a:ext cx="1138320" cy="85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 access managed by _CAN-* fields in _FILE and _FIELD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.: _CAN-READ = “!,Paul,Bob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 all _CAN-* fields = “*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access controlled via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difficult to manage data to application to user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8120" y="237600"/>
            <a:ext cx="861048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Administ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SecAdmins can modify _CAN*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SecAdmins can add/delete _USER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users can modify their own _US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38120" y="237600"/>
            <a:ext cx="861048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– Disable Blank Use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default _CAN-* values from “*” to “!,*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.e. blank user cannot read/write any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ables/fields will get all “*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onfuse with DB Options – Disable Blank Use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0" y="1744560"/>
            <a:ext cx="9144000" cy="32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0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AutoShape 3"/>
          <p:cNvSpPr/>
          <p:nvPr/>
        </p:nvSpPr>
        <p:spPr>
          <a:xfrm flipH="1" flipV="1">
            <a:off x="556560" y="1770840"/>
            <a:ext cx="331560" cy="268200"/>
          </a:xfrm>
          <a:custGeom>
            <a:avLst/>
            <a:gdLst>
              <a:gd name="textAreaLeft" fmla="*/ -360 w 331560"/>
              <a:gd name="textAreaRight" fmla="*/ 331560 w 331560"/>
              <a:gd name="textAreaTop" fmla="*/ -360 h 268200"/>
              <a:gd name="textAreaBottom" fmla="*/ 26820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18" y="0"/>
                </a:lnTo>
                <a:lnTo>
                  <a:pt x="21600" y="10800"/>
                </a:lnTo>
                <a:lnTo>
                  <a:pt x="12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38120" y="237600"/>
            <a:ext cx="861048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by layer from the outside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work, server, O.S., AVM, DB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ble Blank Use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simple: need –U –P at conn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ld be difficult to imp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time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CAN-* access validated at run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of 10.1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s – DB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09480" y="13996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complex passwords and aging in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better yet replace it with a real authentication mgmt system (ex.: LDA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external auth with CLIENT-PRINCIPLE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ed in detail in next few slid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runtime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ecurity administrators and _CAN*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78" name="Object 5" descr=""/>
          <p:cNvPicPr/>
          <p:nvPr/>
        </p:nvPicPr>
        <p:blipFill>
          <a:blip r:embed="rId1"/>
          <a:stretch/>
        </p:blipFill>
        <p:spPr>
          <a:xfrm>
            <a:off x="7299360" y="5329080"/>
            <a:ext cx="113832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dministration - Security options - Authentication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via CLIENT-PRINCIPLE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 from _USER to C-P a 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strongly expect Authentication Domains and CLIENT-PRINCIPLE use to be significantly enhanced and expanded in OE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sted “external” authent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LDAP/Active Direc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could still be an external _US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stead of SETUSERID() for AB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QL still requires _USER in OE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using CLIENT-PRINCIPLE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Edge 10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hierarchical lev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entication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-PRINCIPLE() authentication 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90" name="Picture 5" descr=""/>
          <p:cNvPicPr/>
          <p:nvPr/>
        </p:nvPicPr>
        <p:blipFill>
          <a:blip r:embed="rId1"/>
          <a:stretch/>
        </p:blipFill>
        <p:spPr>
          <a:xfrm>
            <a:off x="5178600" y="1641600"/>
            <a:ext cx="3838320" cy="2876400"/>
          </a:xfrm>
          <a:prstGeom prst="rect">
            <a:avLst/>
          </a:prstGeom>
          <a:ln w="0">
            <a:noFill/>
          </a:ln>
        </p:spPr>
      </p:pic>
      <p:sp>
        <p:nvSpPr>
          <p:cNvPr id="691" name="Content Placeholder 2"/>
          <p:cNvSpPr/>
          <p:nvPr/>
        </p:nvSpPr>
        <p:spPr>
          <a:xfrm>
            <a:off x="609480" y="1628640"/>
            <a:ext cx="4245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defined “types” of external authentic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nyth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y more specific uses in OE 1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09120" y="1628280"/>
            <a:ext cx="4565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how you can authenticate a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of defined “Authentication System”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 access code is the k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95" name="Picture 6" descr=""/>
          <p:cNvPicPr/>
          <p:nvPr/>
        </p:nvPicPr>
        <p:blipFill>
          <a:blip r:embed="rId1"/>
          <a:stretch/>
        </p:blipFill>
        <p:spPr>
          <a:xfrm>
            <a:off x="5035680" y="1512720"/>
            <a:ext cx="3924000" cy="408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System and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E 10 these are strictly user defined and have no intrinsic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“windows”, “windowsid”, “unix”, “unixid”, “OpenEdge” and “oeusertab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Edg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ant to use them in a broader scope in the 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your authentication domai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uthentication Domains on the f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-POLICY:REGISTER-DO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deal – security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 Authentication from one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-POLICY:LOAD-DOMAIN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To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-PRINCIPLE()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ign required and optional attrib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enticate (ex.: validate password with A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l C-P with domain access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e of the day: RO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cost-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you protec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it cost you to protec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it cost you if it gets sto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just € - consider reputation, trus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and easy solutions cost almost nothing and provide biggest bang for your buck (or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To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CLIENT-PRINCIPAL hp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 hpk:USER-ID = "pk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pk:DOMAIN-NAME = "PK_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pk:DOMAIN-TYPE = "PKTEST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pk:DOMAIN-DESCRIPTION = "PK Aut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pk:SESSION-ID = SUBSTRING ( BASE64-ENCODE(GENERATE-UUID), 1, 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pk:ROLES = "user,finance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* Password verification code her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To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* Seal token with the encrypted access cod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hpk:SEAL(“34gd798080a"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 "SEAL FAILED WITH detail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pk:STATE-DETA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IEW-AS ALERT-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ken Val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 the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-POLICY:SET-CLIENT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 sealed C-P against current applicati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-DB-CLIENT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 sealed C-P against one or more specific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ken Val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* Load security domains from DB 1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CURITY-POLICY:LOAD-DOMAINS(1) NO-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SECURITY-POLICY:SET-CLIENT(hpk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 "SET-CLIENT faile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IEW-AS ALERT-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pk:LOG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OBJECT hp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ken Val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DB already connected at SECURITY-POLICY:SET-CLIENT() automatically gets a SET-DB-CLIEN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onnect another DB you must SET-DB-CLIENT(hpk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ba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your connec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System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“weakest lin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ly C-P:SEAL(“access code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let the client code SEAL the to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rm out to AppServer on strongly secured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dea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System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738440" y="1147680"/>
            <a:ext cx="5667120" cy="485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s – External 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iously not trivial but not overly difficul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a simpl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l SEAL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using _U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plug-and-play authentication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customers will want LD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y for new future au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9" name="Object 2" descr=""/>
          <p:cNvPicPr/>
          <p:nvPr/>
        </p:nvPicPr>
        <p:blipFill>
          <a:blip r:embed="rId1"/>
          <a:stretch/>
        </p:blipFill>
        <p:spPr>
          <a:xfrm>
            <a:off x="7251840" y="5386320"/>
            <a:ext cx="113796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Remarks – External 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tuff to look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usted Application Authentication Dom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LDAP for role-based author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o authorize access to functions in you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umber of white papers on Comm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c33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example from Michael Jac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rial Attack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09120" y="1628280"/>
            <a:ext cx="529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w – everything is soooo secure from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s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-code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ull.cf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 LDAP C-P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n’t you proud of yoursel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it a minut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1"/>
          <a:stretch/>
        </p:blipFill>
        <p:spPr>
          <a:xfrm>
            <a:off x="5630760" y="1095480"/>
            <a:ext cx="3252960" cy="2739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38120" y="237600"/>
            <a:ext cx="861048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security as a castle with walls, moats and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concentric_castle"/>
          <p:cNvPicPr/>
          <p:nvPr/>
        </p:nvPicPr>
        <p:blipFill>
          <a:blip r:embed="rId1"/>
          <a:stretch/>
        </p:blipFill>
        <p:spPr>
          <a:xfrm>
            <a:off x="2608200" y="28386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s – Aerial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refreshing your TEST environment with PROD dat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ramble the data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and limit generic user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“qad” password “qa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QL “odbcuser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evelopers in PROD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know you’re guilty of this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Object 5" descr=""/>
          <p:cNvPicPr/>
          <p:nvPr/>
        </p:nvPicPr>
        <p:blipFill>
          <a:blip r:embed="rId1"/>
          <a:stretch/>
        </p:blipFill>
        <p:spPr>
          <a:xfrm>
            <a:off x="7270920" y="5348160"/>
            <a:ext cx="113796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ing the Gates – Segregate R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egregated are your ro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person should be able to write, compile and promot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invest some time to develop  S.O.P.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Object 5" descr=""/>
          <p:cNvPicPr/>
          <p:nvPr/>
        </p:nvPicPr>
        <p:blipFill>
          <a:blip r:embed="rId1"/>
          <a:stretch/>
        </p:blipFill>
        <p:spPr>
          <a:xfrm>
            <a:off x="7261200" y="5318280"/>
            <a:ext cx="1138320" cy="85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38120" y="237600"/>
            <a:ext cx="861048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our Castle 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7" name="Picture 4" descr="concentric_castle"/>
          <p:cNvPicPr/>
          <p:nvPr/>
        </p:nvPicPr>
        <p:blipFill>
          <a:blip r:embed="rId1"/>
          <a:stretch/>
        </p:blipFill>
        <p:spPr>
          <a:xfrm>
            <a:off x="2049480" y="154152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49" name="Picture 4" descr="thanks"/>
          <p:cNvPicPr/>
          <p:nvPr/>
        </p:nvPicPr>
        <p:blipFill>
          <a:blip r:embed="rId1"/>
          <a:stretch/>
        </p:blipFill>
        <p:spPr>
          <a:xfrm>
            <a:off x="3736800" y="2657520"/>
            <a:ext cx="4762800" cy="33336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38120" y="237600"/>
            <a:ext cx="861048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tra special thanks to Michael Jac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Footer Placeholder 1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7331040" y="1509840"/>
            <a:ext cx="1514520" cy="4435200"/>
          </a:xfrm>
          <a:prstGeom prst="rect">
            <a:avLst/>
          </a:prstGeom>
          <a:solidFill>
            <a:srgbClr val="e5e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54" name="Picture 3" descr="j0315598"/>
          <p:cNvPicPr/>
          <p:nvPr/>
        </p:nvPicPr>
        <p:blipFill>
          <a:blip r:embed="rId1"/>
          <a:srcRect l="0" t="0" r="30207" b="0"/>
          <a:stretch/>
        </p:blipFill>
        <p:spPr>
          <a:xfrm>
            <a:off x="6134040" y="2911320"/>
            <a:ext cx="2552760" cy="281304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7"/>
          <p:cNvSpPr/>
          <p:nvPr/>
        </p:nvSpPr>
        <p:spPr>
          <a:xfrm>
            <a:off x="687240" y="1258920"/>
            <a:ext cx="6516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b85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Questions or 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me at </a:t>
            </a:r>
            <a:r>
              <a:rPr b="0" lang="en-US" sz="2800" spc="-1" strike="noStrike" u="sng">
                <a:solidFill>
                  <a:srgbClr val="be005f"/>
                </a:solidFill>
                <a:uFillTx/>
                <a:latin typeface="Arial"/>
                <a:hlinkClick r:id="rId1"/>
              </a:rPr>
              <a:t>pk@progresswiz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s, tools and more available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e005f"/>
                </a:solidFill>
                <a:uFillTx/>
                <a:latin typeface="Arial"/>
                <a:hlinkClick r:id="rId2"/>
              </a:rPr>
              <a:t>www.progresswiz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38120" y="237600"/>
            <a:ext cx="861048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wall is a layer of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…the wall has to have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2c3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gate is a potential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wall1"/>
          <p:cNvPicPr/>
          <p:nvPr/>
        </p:nvPicPr>
        <p:blipFill>
          <a:blip r:embed="rId1"/>
          <a:stretch/>
        </p:blipFill>
        <p:spPr>
          <a:xfrm>
            <a:off x="5961240" y="3987720"/>
            <a:ext cx="2631960" cy="2176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Overview – 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379440" y="1265400"/>
            <a:ext cx="26258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a (TDE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1" name="Picture 18" descr=""/>
          <p:cNvPicPr/>
          <p:nvPr/>
        </p:nvPicPr>
        <p:blipFill>
          <a:blip r:embed="rId1"/>
          <a:stretch/>
        </p:blipFill>
        <p:spPr>
          <a:xfrm>
            <a:off x="2898720" y="1201680"/>
            <a:ext cx="570564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230040" y="6591240"/>
            <a:ext cx="436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Arial"/>
              </a:rPr>
              <a:t>Securing Your Swiss Cheese Environment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235080"/>
            <a:ext cx="86104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Overview – G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379440" y="1265400"/>
            <a:ext cx="26938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01"/>
              </a:spcBef>
              <a:buClr>
                <a:srgbClr val="f2c33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/SQ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b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logi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c33e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3103560" y="1147680"/>
            <a:ext cx="5521320" cy="525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6:33:38Z</dcterms:created>
  <dc:creator>Paul Koufalis</dc:creator>
  <dc:description/>
  <dc:language>en-US</dc:language>
  <cp:lastModifiedBy>Paul Koufalis</cp:lastModifiedBy>
  <cp:lastPrinted>1999-09-24T14:02:08Z</cp:lastPrinted>
  <dcterms:modified xsi:type="dcterms:W3CDTF">2010-11-18T04:57:16Z</dcterms:modified>
  <cp:revision>992</cp:revision>
  <dc:subject/>
  <dc:title>COMP-7: Securing Your Swiss Cheese Environment</dc:title>
</cp:coreProperties>
</file>